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6.gif" ContentType="image/gi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BC12-C086-4833-95D5-1E342672AE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жизни общества 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учитель обществознания МОУ СОШ №1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D1E8-C2AD-47A5-B222-861E155A86BB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оявились зако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 Месопотам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до н.э. царь Хаммураппи создал целый свод законов, чтобы «дать сиять справедливости в стране, чтобы погубить беззаконных и злых, чтобы сильному не притеснять слабо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07A3-726D-49C3-A921-5D1DB312799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м 387 г. до н.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оны 12 таблиц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авливали жесткие наказания для провинивш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вергали людей штраф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ставлял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зн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8C7C-D956-4CB7-B5E7-0AEC07A673A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право служит челове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момента рождения гражданин нашей страны имеет права –это называ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оспособ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действовать в соответствии со своими правами называется-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дееспособ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DD31-0AA2-4773-B694-90D892FF9710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наступает постепенно (стр 64-6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6028-738A-4B70-9E5D-061FBEFEFAD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2429-8779-477B-ACAE-DF7B969B4A8D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де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 65  3-й абзац, Интересны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2BAD-61A3-4040-9842-614451BEB07A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арушение права наступает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твет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неблагоприятные последствия наступающие за нарушен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поступки называют –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еступ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голо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8009-20A4-44F5-90BA-B1917B689F1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67 исторический ф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фразу: «Во все времена преступников наказывали по закону, потому что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сните, как право защищает людей от несправедливости и з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 детям нужны пра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8500-1897-4DF8-A26C-45B4FA14E0D5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E05C-B88A-4310-983F-CFC862025E2D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ля решения каких вопросов существует суд? Как в разные эпохи понимали, что такое «справедливый суд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можно защититься от несправедлив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список действий, которые могут  вам повред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ать двери малознаком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лять вещи без присмотра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DD9D-44DC-49F6-B6F1-4F44CAC865A1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ы ли сужд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должно помогать  человеку в трудно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ая в магазине дорогостоящую вещь, чек аккуратно выбрасывайте в мусорную корз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лучился конфликт, нужно сразу идти в с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являются защитниками пра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суда является последним и обжалованью не подлеж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C628-2C8A-4E51-B7C2-AE1FFC1205AF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 и 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E14F-9EBA-4A58-801A-8B72341A6D63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это система взаимосвязанных между собой юридических норм(правил), которые надо исполнять, иначе придется нести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3710-79EC-4875-8492-57A961847756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во выражается в разных источниках, например в закон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закон? (стр 62 2-й абза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Зак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ажный юридический документ, созданный особым путем, обязательный для испол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2531-5338-4D94-8F1D-38A25DF8F098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ы законов пишут юрис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акие юрис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ческий факт (стр. 63 втор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A188-3C24-4C48-9667-5F49525BCCDB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лению закона в силу предшествует сложная процед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E117-28F4-46F2-8D55-ED124EAA16F9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сферы жизни человека регулируют раз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B767-5CEF-4801-8471-2D40347F14E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B70-4DE8-4DA8-92B0-03C977CA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147-70CB-40A3-A238-0FD2A79C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BEF8A-9F5C-422B-A776-78F4D68B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BDDD3-A4DA-4F56-A539-2F230CE1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E394D-18A3-47B5-8D6A-64BCF8D1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660B5-A746-4EE2-BBE9-99C1A4AA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D5A9F-5A2D-4D42-AFE4-AD54D4D8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EEB5F-E2C3-4BCA-994E-2FA47AA6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8CBF5-5DCA-4B78-8F5C-8660DDEC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AA3D8-5645-445B-AD35-AACE39B7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44C7A-FB2E-4213-9DB4-42F2BA51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66A25-B977-4283-BC7F-3C146D1A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361-F560-4221-A21C-E2C125C2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43B42-BBA4-4070-9D5D-387C9921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0A223-B607-491B-BB50-362F564A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FB5EE-1F34-4117-8756-A5043E92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FFFC8-6EE7-4F5B-820C-4F4B38AB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4E1BF-04B0-40F5-82C8-482938AA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0842C-8EF5-458B-9CEC-A307C3B9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23E3A-9F50-4FEC-B6EF-7DF3C944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0921B-D26A-48B2-8360-81EF0913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1B198-EC0A-48F4-96CB-B9C7FAB9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B8ED1-3C0E-4EAD-B6B2-DD1FC187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576-8571-4B17-B4BA-1468AC3F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C1E8D-17CA-4BCA-A481-EE7E82A2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4AC60-5977-42FE-A44F-7BDDEC1D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8BBFF-67B0-499E-A9DA-3E8A192D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2D04D-EB1C-40F0-8F77-592BF6DF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59C6C-F4EB-4DD5-BDFE-950408AB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9D11B-53AF-4A2E-BFAD-E683D0CC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3DB39-0E90-4F19-A439-178AAB1A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F76C0-CD80-4579-9C65-5D895413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7F299-98CD-402D-9121-FFF4B91C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05815-9E23-4414-9E94-1E7129F8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2E4A-CDF3-42F7-874C-7856C44B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E1889-DBA7-45D3-B0D5-256B64A0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AC04C-86B7-4F9C-830E-5D678797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1CBF5-2153-484D-911D-ED948295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349AE-9BF6-4EEC-9014-6B0025B0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F1398-8163-4684-B4C2-71539D0C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7D6E5-AB3E-4563-A5DE-BEB6EF65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49ACD-A5F7-4F57-A0BB-6AB1BF02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145F9-8F8A-49EF-85F5-AF936790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363A7-9A3B-49A3-A725-AA59E1C3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BD2A4-7809-4481-B411-84F68DC0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810A-DFE3-422C-9744-98E8FDE7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83915-92BB-4B5F-B616-46BB67B1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747AD-219B-4FA4-8DB8-0B063BC2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90B48-2887-4CAA-8DEB-E3638269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4B495-A628-4949-9E02-043A9413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1FCBB-D647-4D7F-8FE0-3A042ADF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5EADA-3826-4412-A256-3AA94A41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25309-303A-45D4-BA95-358A5AB6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94C4B-A939-4CAB-A6D5-BA65DD2E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0C8BD-C8B1-417F-90B7-A132DB05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BC2B9-B643-44F8-BFF8-8F4AB322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3301-8FA0-4B82-AB21-5D354BE4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8FCCE-973E-490B-91E1-7BBD4869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9F9D8-8261-4D7C-9973-27604015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5E2E1-D768-411E-9545-EF7D0A54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C8C54-8E54-4BE8-9380-FF259717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A3918-6F3C-487D-A6B1-257CF5F3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C826A-A0B1-4D09-8D65-5B36AA1A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81AD5-9A0E-4FFC-91C6-FE73D10F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8889CA-1DAB-420B-B3B7-A8EF1070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6285A-80B9-417B-9AFC-7E082275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76747A-DE94-415B-9877-EBE92BB9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B9FD-6CAD-4F67-9727-1AA1E542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5CCA5-D899-49CD-84DC-26799362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549B45-DD16-49E0-ABE8-811F0A05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EB014B-A74F-42E0-B24B-6B031D09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F849F-6773-4675-8F83-59E27840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BDC0D4-FE66-4FC7-93B0-F1A1FD8B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AE6BE-C438-4C07-BC3F-35F9208F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F4B1C-EF67-4515-A186-71769B0D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1C3877-5A88-4C83-9D11-DC946AD4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E3344D-E61C-4340-96C3-9784F052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DE245C-A987-4885-BA5F-2146E5E6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1219-5016-4FBF-BC5F-338F0E94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6EB2E2-0753-4F1D-8D85-62E5755C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5BBABD-3669-4E2F-89B8-624CA114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635F5-36F3-4622-B252-2503C6C8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F33E6D-3973-4812-B4BA-C34A360E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47F176-02BA-44CF-BB82-68ACEC3A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CFD6CF-AC34-48EF-8AB6-956E8846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096779-D022-43F0-B065-84C012AB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A61A72-6BC6-434A-8138-4932B833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857B8A-1F8F-4089-A3F0-1CE039E9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BA1CA8-A4AB-4F60-8563-677067C1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E0D3-4474-4157-B665-16116B28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76C4FC-6167-46B2-A187-BD6BA50A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AE62-D759-4B41-815D-44C14BE7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72E-056D-40C2-8B88-59CFF7C1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5F47-43BA-415B-8FEA-F30F85A0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3F93-E4D4-4449-B84E-336C4C18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1F0F-E8C9-40B9-936F-0BE53079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1B33-7CF8-4CD2-87D6-341C37E5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0761-661D-4A32-9615-278D7706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7223F-686C-4791-BF97-D6704A71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474C9-42D6-4089-965C-3C606A55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607D8-18EC-46D3-B0E7-83416A40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C96D1-E6E8-4575-947F-2ABECC7E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65AB4-0080-4B77-8981-483233DC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B3C-16D3-4E0A-A515-200B70A7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816B3-3B58-48E8-83A7-CE477853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CB24F-7532-4F1D-9537-7F658FDD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F63F2-B500-46BE-B959-34431FD3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142FE-E4E4-40E0-847D-8AFBDAC0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F64D3-1D4D-462F-BD74-4B97EE6A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C2D9F-926A-4325-BDDF-837E3BD4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66E62-ABAC-4ED2-8E0D-2969FE8D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0CCF6-1033-4C13-9C46-50CEFF87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D28E8-5549-4DEE-B0A4-787DBB99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5BBA6-9D93-47F6-9AB1-4BE98744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915-03A6-4F59-8E46-8ACF02E7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C4630-7357-423E-9EBF-346B6221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A7CA1-FB90-4A8D-BB82-4DC3253B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C0FFD-5465-4CCD-8A6B-5B5149A1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73E15-B358-43B6-B064-41C31CE8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727BE-8E73-4AA3-8B7C-0F6372A7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1AA83-0FF8-4538-A478-507BA143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B4F16-5522-4CBB-89B5-AC164C33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37A19-0DD8-4E83-A2F2-A615FEC7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F21BE-8982-40E4-8A49-B3FD3F5E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83ECD-348D-4798-8165-B573A62E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8237-2676-4582-8C9C-C7DA641F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2CA54-6DEC-40CD-A9E5-2AEB0F84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BE519-999E-4255-92F5-553612F2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8A1E8-BEA5-45C1-B79D-E960C112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CAD68-DF68-4878-B77A-2F7C00E4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58E6A-8257-4F3D-A7C1-EC1F7FC7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66C59-E6E7-4B85-B787-563B0EAD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63277-FE96-440F-B49E-FBDAF262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0AB0A-EE03-4F77-A2F9-92302A8E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1E4B6-CDCD-4A9B-8777-68049D76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36AB6-4520-4D50-843B-0CBBB1BF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D1E-5D7A-4726-863D-F70614E8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CE71E-C7E7-4B8C-B523-CB83BA62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0D47E-6D85-4C79-B83D-E7AA509F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0717C-8111-491D-A64B-00F658FF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28236-F245-4111-A0B1-A21186BA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2A57F-9A92-4752-A150-EFCFF4FC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C0D66-D3DC-4F27-978A-E5B22BFC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E54B0-FBEA-424A-83FF-026D38D7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1C6E1-0C2D-402F-A5B8-D0CDD0C9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E8A0B-2571-4730-990B-8B9694E0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31CE9-706A-4E75-9841-76F6CF74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2CF-C4F2-440E-AB4D-3D50A463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D051A-C12C-4DAF-9047-8B1A7856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BDFBF-7DCE-40F1-9FB9-042EC260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4A7FC-9613-49C3-B750-3CFDED5B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422BF-BE7E-4117-B283-07683D17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7B9E9-741C-408C-9AD3-5D438405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8342D-DFD7-4859-B793-3B155975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8CF7C-5236-4121-A888-1BFF7C41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3B9B0-5941-49C6-AC30-71642A61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0E3B4-174B-4918-9548-C515FA1F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D8B75-950D-466C-A0E6-F62FB2BE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C24-9BD0-4A0A-A259-9F15BAEF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190EF-73F4-4031-99A2-CD54B289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70261-C6FA-4EAD-AD1B-EFA95C36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BD2B4-C75D-479F-BE2F-C302CDB8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556DB-5982-4509-B364-E0C0DF2D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A1801-DE81-4685-B631-D6A2B77F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04135-F97F-49F3-B3EA-27A84940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0341F-A815-4150-B16E-B4F083D5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3F95B-4A27-4432-B4FC-3A9BC7D9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3AB54-7A86-47E3-93D2-6FD09AE9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ABB04-BF6F-46F3-809E-EB19FB0A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5D5-A927-4302-AA6C-4D6191CE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83D79-E652-4197-9A68-A007FCB5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20916-34CC-4485-B1C4-4FF76A92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98CE4-EB22-4458-8651-B2F026A4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42951-3152-4309-8754-A488748B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6743A-80D7-4FB1-9307-49B859E0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6E27B-FE73-4B3D-8438-A8FAEB10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6CF5A-90A8-46FC-90A9-5ED8B783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5A825-FA47-46ED-8C76-094FFE48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67E40-0AB8-47C9-BA80-8ABBC2D2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9677D-9261-4587-B076-477EBB40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7A57-C69E-4F64-9186-9DA4041DFB2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92EC-9562-41A0-A6B7-8C9C3A8E1F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61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2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63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4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5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6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7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68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94FF-9E87-48B4-B664-7BB29EEDBE9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F2DB-2DF4-411D-9552-E152BFC9EEE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1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51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1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1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1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8FCE-F8EF-4201-81C8-8E59C92C136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78BD-3B27-46BB-85E7-D8D460AFF3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56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6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6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7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769D-873C-43EB-A023-5C5C32A0EB0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C196-D15A-41E9-82CE-9F52944484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13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614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16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617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8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9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0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21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B3B6-DC32-4027-A2C7-331B97ED111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831B-BEAC-4AD3-91D2-C37893662F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64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665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6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67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668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9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0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1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72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0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8D4A-C1A2-4E30-8A8D-D9413202DCC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F0DC-60C1-4FC2-8DD9-33D5678A013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5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716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7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718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719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0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1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2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723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3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29A5-6E04-456D-8356-5EB1481FA872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4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7D9D-76EF-4505-A3F8-577F0987229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E0D9-D2CD-4D8C-85B0-2E1F1F132BD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C42A-7ED2-4F61-A22F-51F0863F9D2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04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6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07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8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9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11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45C9-A5F1-4334-9C3B-850273BBD96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CB95-47D9-4852-AF49-A97DAF7E4A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55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7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58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2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950F-82BB-4614-9158-D7A83E8596B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8198-B32B-4143-85D3-AD8FF74E9F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06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08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209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0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1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13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15FF-DF76-46C5-A4CA-58AF9EEA652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5C21-3078-47E8-A171-F91C943096B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57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8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59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260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1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2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4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381E-DA5E-40A8-A86E-233866FC654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8DE4-5689-4C53-87E5-E485EDBD2F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308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9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10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311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2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3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4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5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2353-9FB3-45D8-9C09-B6B47606D55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5ABC-B9B3-4D0B-A4F5-706ADE03AAD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359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61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362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3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4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5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66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84A0-160E-4579-B24F-7D7C61D02C1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A20C-635D-4493-998E-CC7BAECC188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10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1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12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13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4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5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6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17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6E66-FBE8-48C2-B84B-4972B56587B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18CB-81D8-49F2-968F-F6BBE31A29B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749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оль права в жизни общества и челове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1371600" y="5219280"/>
            <a:ext cx="640080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дготовила учитель обществознания МОУ СОШ №1 Коребо О.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4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огда появились законы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авитель Месопотамии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VIII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века до н.э. царь Хаммураппи создал целый свод законов, чтобы «дать сиять справедливости в стране, чтобы погубить беззаконных и злых, чтобы сильному не притеснять слабого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36" name="Picture 7" descr="j0297161"/>
          <p:cNvPicPr/>
          <p:nvPr/>
        </p:nvPicPr>
        <p:blipFill>
          <a:blip r:embed="rId1"/>
          <a:stretch/>
        </p:blipFill>
        <p:spPr>
          <a:xfrm>
            <a:off x="4067280" y="5013360"/>
            <a:ext cx="1657080" cy="1655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3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им 387 г. до н.э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Законы 12 таблиц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Устанавливали жесткие наказания для провинившихся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Подвергали людей штрафа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Заставляли загладить причиненный вре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Казнил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40" name="Group 8"/>
          <p:cNvGrpSpPr/>
          <p:nvPr/>
        </p:nvGrpSpPr>
        <p:grpSpPr>
          <a:xfrm>
            <a:off x="6934320" y="189000"/>
            <a:ext cx="2209680" cy="2406600"/>
            <a:chOff x="6934320" y="189000"/>
            <a:chExt cx="2209680" cy="2406600"/>
          </a:xfrm>
        </p:grpSpPr>
        <p:pic>
          <p:nvPicPr>
            <p:cNvPr id="841" name="Object 9" descr=""/>
            <p:cNvPicPr/>
            <p:nvPr/>
          </p:nvPicPr>
          <p:blipFill>
            <a:blip r:embed="rId1"/>
            <a:stretch/>
          </p:blipFill>
          <p:spPr>
            <a:xfrm>
              <a:off x="6934320" y="189000"/>
              <a:ext cx="2209680" cy="1527120"/>
            </a:xfrm>
            <a:prstGeom prst="rect">
              <a:avLst/>
            </a:prstGeom>
            <a:ln w="38160">
              <a:solidFill>
                <a:srgbClr val="0000cc"/>
              </a:solidFill>
              <a:miter/>
            </a:ln>
          </p:spPr>
        </p:pic>
        <p:sp>
          <p:nvSpPr>
            <p:cNvPr id="842" name="Text Box 10"/>
            <p:cNvSpPr/>
            <p:nvPr/>
          </p:nvSpPr>
          <p:spPr>
            <a:xfrm>
              <a:off x="7355880" y="1770120"/>
              <a:ext cx="1308600" cy="825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ревний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им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4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егодня право служит человеку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момента рождения гражданин нашей страны имеет права –это называется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авоспособностью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озможность действовать в соответствии со своими правами называется-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ееспособность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46" name="Group 5"/>
          <p:cNvGrpSpPr/>
          <p:nvPr/>
        </p:nvGrpSpPr>
        <p:grpSpPr>
          <a:xfrm>
            <a:off x="5726880" y="2421000"/>
            <a:ext cx="2373840" cy="2513160"/>
            <a:chOff x="5726880" y="2421000"/>
            <a:chExt cx="2373840" cy="2513160"/>
          </a:xfrm>
        </p:grpSpPr>
        <p:pic>
          <p:nvPicPr>
            <p:cNvPr id="847" name="Picture 6" descr="j0078835"/>
            <p:cNvPicPr/>
            <p:nvPr/>
          </p:nvPicPr>
          <p:blipFill>
            <a:blip r:embed="rId1"/>
            <a:stretch/>
          </p:blipFill>
          <p:spPr>
            <a:xfrm>
              <a:off x="6090840" y="2421000"/>
              <a:ext cx="2009880" cy="20876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48" name="Text Box 7"/>
            <p:cNvSpPr/>
            <p:nvPr/>
          </p:nvSpPr>
          <p:spPr>
            <a:xfrm>
              <a:off x="5726880" y="4474440"/>
              <a:ext cx="20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     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С рождения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4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ееспособность наступает постепенно (стр 64-65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66204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-14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-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ееспособно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684360" y="1557360"/>
          <a:ext cx="7772400" cy="49928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-14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вершать мелкие бытовые сделк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Быть автором произведени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74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-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одрабатывать, самостоятельно распоряжаться доходам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Вносить вклады в банки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вершать сделки от своего имен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тановится взрослым человеком – полная дееспособность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детей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тр 65  3-й абзац, Интересный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ак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58" name="Picture 5" descr="j0295182"/>
          <p:cNvPicPr/>
          <p:nvPr/>
        </p:nvPicPr>
        <p:blipFill>
          <a:blip r:embed="rId1"/>
          <a:stretch/>
        </p:blipFill>
        <p:spPr>
          <a:xfrm>
            <a:off x="611280" y="1628640"/>
            <a:ext cx="1800000" cy="1117800"/>
          </a:xfrm>
          <a:prstGeom prst="rect">
            <a:avLst/>
          </a:prstGeom>
          <a:ln w="0">
            <a:noFill/>
          </a:ln>
        </p:spPr>
      </p:pic>
      <p:sp>
        <p:nvSpPr>
          <p:cNvPr id="859" name="Rectangle 8"/>
          <p:cNvSpPr/>
          <p:nvPr/>
        </p:nvSpPr>
        <p:spPr>
          <a:xfrm>
            <a:off x="2771640" y="1628640"/>
            <a:ext cx="5616720" cy="1081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0" name="Picture 10" descr="j0344285"/>
          <p:cNvPicPr/>
          <p:nvPr/>
        </p:nvPicPr>
        <p:blipFill>
          <a:blip r:embed="rId2"/>
          <a:stretch/>
        </p:blipFill>
        <p:spPr>
          <a:xfrm>
            <a:off x="611280" y="5584680"/>
            <a:ext cx="1655640" cy="12733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861" name="Picture 14" descr="j0286972"/>
          <p:cNvPicPr/>
          <p:nvPr/>
        </p:nvPicPr>
        <p:blipFill>
          <a:blip r:embed="rId3"/>
          <a:stretch/>
        </p:blipFill>
        <p:spPr>
          <a:xfrm>
            <a:off x="684360" y="2852640"/>
            <a:ext cx="1655640" cy="1152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62" name="Rectangle 17"/>
          <p:cNvSpPr/>
          <p:nvPr/>
        </p:nvSpPr>
        <p:spPr>
          <a:xfrm>
            <a:off x="2700360" y="2852640"/>
            <a:ext cx="5688000" cy="792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. 65 последний абзац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3" name="Rectangle 18"/>
          <p:cNvSpPr/>
          <p:nvPr/>
        </p:nvSpPr>
        <p:spPr>
          <a:xfrm>
            <a:off x="2700360" y="5850000"/>
            <a:ext cx="5616720" cy="1008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. 66 3-й абзац, Исторический фак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4" name="Picture 24" descr="j0292082"/>
          <p:cNvPicPr/>
          <p:nvPr/>
        </p:nvPicPr>
        <p:blipFill>
          <a:blip r:embed="rId4"/>
          <a:stretch/>
        </p:blipFill>
        <p:spPr>
          <a:xfrm>
            <a:off x="684360" y="4221000"/>
            <a:ext cx="1584000" cy="1152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65" name="Rectangle 25"/>
          <p:cNvSpPr/>
          <p:nvPr/>
        </p:nvSpPr>
        <p:spPr>
          <a:xfrm>
            <a:off x="2700360" y="4365720"/>
            <a:ext cx="5688000" cy="863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 66 2-й абзац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За нарушение права наступает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ответственно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894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Ответственность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– это неблагоприятные последствия наступающие за нарушение прав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пасные поступки называют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еступлениям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Уголовная ответствен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69" name="Group 14"/>
          <p:cNvGrpSpPr/>
          <p:nvPr/>
        </p:nvGrpSpPr>
        <p:grpSpPr>
          <a:xfrm>
            <a:off x="324000" y="5013360"/>
            <a:ext cx="8064360" cy="1584360"/>
            <a:chOff x="324000" y="5013360"/>
            <a:chExt cx="8064360" cy="1584360"/>
          </a:xfrm>
        </p:grpSpPr>
        <p:sp>
          <p:nvSpPr>
            <p:cNvPr id="870" name="Line 9"/>
            <p:cNvSpPr/>
            <p:nvPr/>
          </p:nvSpPr>
          <p:spPr>
            <a:xfrm flipH="1">
              <a:off x="2411280" y="5013360"/>
              <a:ext cx="1152720" cy="360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Line 10"/>
            <p:cNvSpPr/>
            <p:nvPr/>
          </p:nvSpPr>
          <p:spPr>
            <a:xfrm>
              <a:off x="4427640" y="5013360"/>
              <a:ext cx="1081080" cy="360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2" name="Rectangle 11"/>
            <p:cNvSpPr/>
            <p:nvPr/>
          </p:nvSpPr>
          <p:spPr>
            <a:xfrm>
              <a:off x="324000" y="5445000"/>
              <a:ext cx="2952720" cy="1152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ступает с 16 лет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3" name="Rectangle 12"/>
            <p:cNvSpPr/>
            <p:nvPr/>
          </p:nvSpPr>
          <p:spPr>
            <a:xfrm>
              <a:off x="4500720" y="5373720"/>
              <a:ext cx="388764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 тяжкие (убийство,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ымогательство, теракт 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ступает с 14 лет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74" name="Місце для нижнього колонтитула 2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тр. 67 исторический факт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должите фразу: «Во все времена преступников наказывали по закону, потому что…..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ясните, как право защищает людей от несправедливости и зл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ак вы считаете детям нужны права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пасибо за внимани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оверка домашнего зад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1. Для решения каких вопросов существует суд? Как в разные эпохи понимали, что такое «справедливый суд»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2. Как можно защититься от несправедливости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одолжите список действий, которые могут  вам повредить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ткрывать двери малознакомы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ставлять вещи без присмотра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7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ерны ли суждения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аво должно помогать  человеку в трудно ситуаци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обретая в магазине дорогостоящую вещь, чек аккуратно выбрасывайте в мусорную корзин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Если случился конфликт, нужно сразу идти в суд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дители являются защитниками прав дете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ешение суда является последним и обжалованью не подлежит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аво и закон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авоспособность и дееспособ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иды пра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ветствен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20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раво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-это система взаимосвязанных между собой юридических норм(правил), которые надо исполнять, иначе придется нести ответственность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85" name="Group 18"/>
          <p:cNvGrpSpPr/>
          <p:nvPr/>
        </p:nvGrpSpPr>
        <p:grpSpPr>
          <a:xfrm>
            <a:off x="1191960" y="2924280"/>
            <a:ext cx="7136280" cy="2712960"/>
            <a:chOff x="1191960" y="2924280"/>
            <a:chExt cx="7136280" cy="2712960"/>
          </a:xfrm>
        </p:grpSpPr>
        <p:grpSp>
          <p:nvGrpSpPr>
            <p:cNvPr id="786" name="Group 5"/>
            <p:cNvGrpSpPr/>
            <p:nvPr/>
          </p:nvGrpSpPr>
          <p:grpSpPr>
            <a:xfrm>
              <a:off x="4122720" y="3213000"/>
              <a:ext cx="1730520" cy="2039040"/>
              <a:chOff x="4122720" y="3213000"/>
              <a:chExt cx="1730520" cy="2039040"/>
            </a:xfrm>
          </p:grpSpPr>
          <p:pic>
            <p:nvPicPr>
              <p:cNvPr id="787" name="Picture 6" descr="j0215541"/>
              <p:cNvPicPr/>
              <p:nvPr/>
            </p:nvPicPr>
            <p:blipFill>
              <a:blip r:embed="rId1"/>
              <a:stretch/>
            </p:blipFill>
            <p:spPr>
              <a:xfrm>
                <a:off x="4303800" y="3213000"/>
                <a:ext cx="1368360" cy="134892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788" name="Text Box 7"/>
              <p:cNvSpPr/>
              <p:nvPr/>
            </p:nvSpPr>
            <p:spPr>
              <a:xfrm>
                <a:off x="4122720" y="4792320"/>
                <a:ext cx="173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 Narrow"/>
                  </a:rPr>
                  <a:t>государство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89" name="Group 8"/>
            <p:cNvGrpSpPr/>
            <p:nvPr/>
          </p:nvGrpSpPr>
          <p:grpSpPr>
            <a:xfrm>
              <a:off x="1191960" y="3068640"/>
              <a:ext cx="2873160" cy="2503080"/>
              <a:chOff x="1191960" y="3068640"/>
              <a:chExt cx="2873160" cy="2503080"/>
            </a:xfrm>
          </p:grpSpPr>
          <p:sp>
            <p:nvSpPr>
              <p:cNvPr id="790" name="Text Box 9"/>
              <p:cNvSpPr/>
              <p:nvPr/>
            </p:nvSpPr>
            <p:spPr>
              <a:xfrm>
                <a:off x="1191960" y="4746240"/>
                <a:ext cx="2004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ff"/>
                    </a:solidFill>
                    <a:latin typeface="Arial Narrow"/>
                  </a:rPr>
                  <a:t>Поддерживает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ff"/>
                    </a:solidFill>
                    <a:latin typeface="Arial Narrow"/>
                  </a:rPr>
                  <a:t>право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791" name="Group 10"/>
              <p:cNvGrpSpPr/>
              <p:nvPr/>
            </p:nvGrpSpPr>
            <p:grpSpPr>
              <a:xfrm>
                <a:off x="1662120" y="3068640"/>
                <a:ext cx="2403000" cy="1733040"/>
                <a:chOff x="1662120" y="3068640"/>
                <a:chExt cx="2403000" cy="1733040"/>
              </a:xfrm>
            </p:grpSpPr>
            <p:pic>
              <p:nvPicPr>
                <p:cNvPr id="792" name="Picture 11" descr="j0344099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62120" y="3068640"/>
                  <a:ext cx="1066680" cy="1733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Line 12"/>
                <p:cNvSpPr/>
                <p:nvPr/>
              </p:nvSpPr>
              <p:spPr>
                <a:xfrm flipH="1">
                  <a:off x="2912760" y="3912840"/>
                  <a:ext cx="1152360" cy="0"/>
                </a:xfrm>
                <a:prstGeom prst="line">
                  <a:avLst/>
                </a:prstGeom>
                <a:ln w="76320">
                  <a:solidFill>
                    <a:srgbClr val="ff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4" name="Group 13"/>
            <p:cNvGrpSpPr/>
            <p:nvPr/>
          </p:nvGrpSpPr>
          <p:grpSpPr>
            <a:xfrm>
              <a:off x="5865840" y="2924280"/>
              <a:ext cx="2462400" cy="2712960"/>
              <a:chOff x="5865840" y="2924280"/>
              <a:chExt cx="2462400" cy="2712960"/>
            </a:xfrm>
          </p:grpSpPr>
          <p:grpSp>
            <p:nvGrpSpPr>
              <p:cNvPr id="795" name="Group 14"/>
              <p:cNvGrpSpPr/>
              <p:nvPr/>
            </p:nvGrpSpPr>
            <p:grpSpPr>
              <a:xfrm>
                <a:off x="6878160" y="2924280"/>
                <a:ext cx="1450080" cy="2712960"/>
                <a:chOff x="6878160" y="2924280"/>
                <a:chExt cx="1450080" cy="2712960"/>
              </a:xfrm>
            </p:grpSpPr>
            <p:pic>
              <p:nvPicPr>
                <p:cNvPr id="796" name="Picture 15" descr="j034352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82000" y="2924280"/>
                  <a:ext cx="885600" cy="1801440"/>
                </a:xfrm>
                <a:prstGeom prst="rect">
                  <a:avLst/>
                </a:prstGeom>
                <a:ln w="76320">
                  <a:solidFill>
                    <a:srgbClr val="ffcc00"/>
                  </a:solidFill>
                  <a:miter/>
                </a:ln>
              </p:spPr>
            </p:pic>
            <p:sp>
              <p:nvSpPr>
                <p:cNvPr id="797" name="Text Box 16"/>
                <p:cNvSpPr/>
                <p:nvPr/>
              </p:nvSpPr>
              <p:spPr>
                <a:xfrm>
                  <a:off x="6878160" y="4811760"/>
                  <a:ext cx="14500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ccff"/>
                      </a:solidFill>
                      <a:latin typeface="Arial Narrow"/>
                    </a:rPr>
                    <a:t>Защищает</a:t>
                  </a: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ccff"/>
                      </a:solidFill>
                      <a:latin typeface="Arial Narrow"/>
                    </a:rPr>
                    <a:t>право</a:t>
                  </a: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Line 17"/>
              <p:cNvSpPr/>
              <p:nvPr/>
            </p:nvSpPr>
            <p:spPr>
              <a:xfrm>
                <a:off x="5865840" y="3932280"/>
                <a:ext cx="1152360" cy="0"/>
              </a:xfrm>
              <a:prstGeom prst="line">
                <a:avLst/>
              </a:prstGeom>
              <a:ln w="7632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799" name="Місце для нижнього колонтитула 2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раво выражается в разных источниках, например в законах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то такое закон? (стр 62 2-й абзац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Закон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– важный юридический документ, созданный особым путем, обязательный для исполнен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02" name="Group 7"/>
          <p:cNvGrpSpPr/>
          <p:nvPr/>
        </p:nvGrpSpPr>
        <p:grpSpPr>
          <a:xfrm>
            <a:off x="6227640" y="3933720"/>
            <a:ext cx="2663640" cy="2567520"/>
            <a:chOff x="6227640" y="3933720"/>
            <a:chExt cx="2663640" cy="2567520"/>
          </a:xfrm>
        </p:grpSpPr>
        <p:pic>
          <p:nvPicPr>
            <p:cNvPr id="803" name="Picture 8" descr="j0215689"/>
            <p:cNvPicPr/>
            <p:nvPr/>
          </p:nvPicPr>
          <p:blipFill>
            <a:blip r:embed="rId1"/>
            <a:stretch/>
          </p:blipFill>
          <p:spPr>
            <a:xfrm>
              <a:off x="6227640" y="3933720"/>
              <a:ext cx="2663640" cy="20822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04" name="Text Box 9"/>
            <p:cNvSpPr/>
            <p:nvPr/>
          </p:nvSpPr>
          <p:spPr>
            <a:xfrm>
              <a:off x="6543720" y="604152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 Narrow"/>
                </a:rPr>
                <a:t>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 Narrow"/>
                </a:rPr>
                <a:t>законы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0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ексты законов пишут юрист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то такие юристы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сторический факт (стр. 63 второй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08" name="Picture 7" descr="j0231077"/>
          <p:cNvPicPr/>
          <p:nvPr/>
        </p:nvPicPr>
        <p:blipFill>
          <a:blip r:embed="rId1"/>
          <a:stretch/>
        </p:blipFill>
        <p:spPr>
          <a:xfrm>
            <a:off x="2627280" y="3933720"/>
            <a:ext cx="3489480" cy="2232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0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ступлению закона в силу предшествует сложная процедура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1835280" y="2276640"/>
            <a:ext cx="4968720" cy="72072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Рассматривается в парламент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2" name="Line 6"/>
          <p:cNvSpPr/>
          <p:nvPr/>
        </p:nvSpPr>
        <p:spPr>
          <a:xfrm>
            <a:off x="4356000" y="3068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1763640" y="3500280"/>
            <a:ext cx="5113440" cy="86544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Утверждается Президент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4" name="Line 9"/>
          <p:cNvSpPr/>
          <p:nvPr/>
        </p:nvSpPr>
        <p:spPr>
          <a:xfrm>
            <a:off x="4356000" y="436572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5" name="Rectangle 10"/>
          <p:cNvSpPr/>
          <p:nvPr/>
        </p:nvSpPr>
        <p:spPr>
          <a:xfrm>
            <a:off x="1763640" y="4724280"/>
            <a:ext cx="5256360" cy="79236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убликуется в С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6" name="Line 11"/>
          <p:cNvSpPr/>
          <p:nvPr/>
        </p:nvSpPr>
        <p:spPr>
          <a:xfrm flipH="1" flipV="1">
            <a:off x="4355640" y="4723920"/>
            <a:ext cx="71640" cy="7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7" name="Rectangle 12"/>
          <p:cNvSpPr/>
          <p:nvPr/>
        </p:nvSpPr>
        <p:spPr>
          <a:xfrm>
            <a:off x="755640" y="6021360"/>
            <a:ext cx="8064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Читать стр. 62 3-й абзац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18" name="Picture 14" descr="j0237460"/>
          <p:cNvPicPr/>
          <p:nvPr/>
        </p:nvPicPr>
        <p:blipFill>
          <a:blip r:embed="rId1"/>
          <a:stretch/>
        </p:blipFill>
        <p:spPr>
          <a:xfrm>
            <a:off x="7164360" y="2349360"/>
            <a:ext cx="1731960" cy="20163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1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Разные сферы жизни человека регулируют разные закон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396000" y="1628640"/>
            <a:ext cx="1706400" cy="1224000"/>
            <a:chOff x="396000" y="1628640"/>
            <a:chExt cx="1706400" cy="1224000"/>
          </a:xfrm>
        </p:grpSpPr>
        <p:pic>
          <p:nvPicPr>
            <p:cNvPr id="822" name="Picture 10" descr="ed00039_"/>
            <p:cNvPicPr/>
            <p:nvPr/>
          </p:nvPicPr>
          <p:blipFill>
            <a:blip r:embed="rId1"/>
            <a:stretch/>
          </p:blipFill>
          <p:spPr>
            <a:xfrm>
              <a:off x="463320" y="1628640"/>
              <a:ext cx="1584000" cy="1224000"/>
            </a:xfrm>
            <a:prstGeom prst="rect">
              <a:avLst/>
            </a:prstGeom>
            <a:ln w="76320">
              <a:solidFill>
                <a:srgbClr val="ff3300"/>
              </a:solidFill>
              <a:miter/>
            </a:ln>
          </p:spPr>
        </p:pic>
        <p:sp>
          <p:nvSpPr>
            <p:cNvPr id="823" name="Text Box 11"/>
            <p:cNvSpPr/>
            <p:nvPr/>
          </p:nvSpPr>
          <p:spPr>
            <a:xfrm>
              <a:off x="396000" y="1897920"/>
              <a:ext cx="1706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ституция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Ф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24" name="Rectangle 13"/>
          <p:cNvSpPr/>
          <p:nvPr/>
        </p:nvSpPr>
        <p:spPr>
          <a:xfrm>
            <a:off x="2268360" y="1773360"/>
            <a:ext cx="5545440" cy="93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сновной закон стран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5" name="Picture 15" descr="j0233260"/>
          <p:cNvPicPr/>
          <p:nvPr/>
        </p:nvPicPr>
        <p:blipFill>
          <a:blip r:embed="rId2"/>
          <a:stretch/>
        </p:blipFill>
        <p:spPr>
          <a:xfrm>
            <a:off x="611280" y="3068640"/>
            <a:ext cx="1212840" cy="1170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26" name="Rectangle 17"/>
          <p:cNvSpPr/>
          <p:nvPr/>
        </p:nvSpPr>
        <p:spPr>
          <a:xfrm>
            <a:off x="2268360" y="3284640"/>
            <a:ext cx="5832720" cy="792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емейный кодек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7" name="Picture 19" descr="j0150102"/>
          <p:cNvPicPr/>
          <p:nvPr/>
        </p:nvPicPr>
        <p:blipFill>
          <a:blip r:embed="rId3"/>
          <a:stretch/>
        </p:blipFill>
        <p:spPr>
          <a:xfrm>
            <a:off x="395280" y="4437000"/>
            <a:ext cx="1657440" cy="124164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sp>
        <p:nvSpPr>
          <p:cNvPr id="828" name="Rectangle 21"/>
          <p:cNvSpPr/>
          <p:nvPr/>
        </p:nvSpPr>
        <p:spPr>
          <a:xfrm>
            <a:off x="2484360" y="4437000"/>
            <a:ext cx="5472360" cy="1079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Трудовой кодек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829" name="Group 23"/>
          <p:cNvGrpSpPr/>
          <p:nvPr/>
        </p:nvGrpSpPr>
        <p:grpSpPr>
          <a:xfrm>
            <a:off x="613440" y="5734080"/>
            <a:ext cx="1166760" cy="1415520"/>
            <a:chOff x="613440" y="5734080"/>
            <a:chExt cx="1166760" cy="1415520"/>
          </a:xfrm>
        </p:grpSpPr>
        <p:pic>
          <p:nvPicPr>
            <p:cNvPr id="830" name="Picture 24" descr="bd06876_"/>
            <p:cNvPicPr/>
            <p:nvPr/>
          </p:nvPicPr>
          <p:blipFill>
            <a:blip r:embed="rId4"/>
            <a:stretch/>
          </p:blipFill>
          <p:spPr>
            <a:xfrm>
              <a:off x="687240" y="5734080"/>
              <a:ext cx="1067040" cy="955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831" name="Text Box 25"/>
            <p:cNvSpPr/>
            <p:nvPr/>
          </p:nvSpPr>
          <p:spPr>
            <a:xfrm>
              <a:off x="613440" y="6689880"/>
              <a:ext cx="11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Школ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2" name="Rectangle 27"/>
          <p:cNvSpPr/>
          <p:nvPr/>
        </p:nvSpPr>
        <p:spPr>
          <a:xfrm>
            <a:off x="2556000" y="5661000"/>
            <a:ext cx="5400720" cy="1008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3" name="Місце для нижнього колонтитула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1:09:45Z</dcterms:created>
  <dc:creator>USER</dc:creator>
  <dc:description/>
  <dc:language>en-US</dc:language>
  <cp:lastModifiedBy>LEGION</cp:lastModifiedBy>
  <dcterms:modified xsi:type="dcterms:W3CDTF">2015-01-28T10:10:45Z</dcterms:modified>
  <cp:revision>9</cp:revision>
  <dc:subject/>
  <dc:title>Слайд 1</dc:title>
</cp:coreProperties>
</file>